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1.gif" ContentType="image/gif"/>
  <Override PartName="/ppt/media/image28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52720" y="-360"/>
            <a:ext cx="29433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-457560" y="-360"/>
            <a:ext cx="7715160" cy="57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33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52720" y="9427680"/>
            <a:ext cx="29433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FC3A04F-8B39-4A66-A57A-5DACBCB11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695DD68-48F9-4516-9CD8-EFC3A22E60F5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왕립과학아카데미의 거대한 렌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바늘일 필요가 없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B3CF77C-1546-4774-8AE5-8327F4286990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4E770C5-F952-45EC-9AAC-C18CC2F366FC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류계바늘 대신 전자석 이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자석  스위치 사이에 엠보싱 종이를 끼워넣어 부호 기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692474E-31B2-41E9-A27D-367A39626472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DAB5B98-A196-42AD-817B-AD96A991457D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EA36AA8-BA09-417E-8985-AC3CF938F81F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FA907A3-D141-486E-870E-1B0B4C801351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986308E-9374-477C-A8F6-8BFBA49F1B53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9992273-0B69-4C63-AB74-0B9EBCB23606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신선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no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4A55CCC-7B2F-42DA-94BA-225031424CF4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85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세포이 항쟁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영국정부는 전신과 같은 빠른 통신망의 필요성 절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898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파쇼다 사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영국 전신망의 승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저전신 가설 과정에서 물리학자들의 입지 높아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1303403-2DC1-46D1-B5DF-70EAAF5B4349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FFF00, FFC8A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약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200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=(14+5)*(11+10)*(1+14+5+10) [10bit]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최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90*66*98=582,120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14bit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4*320*240*30*60/8=424,720,000 Byte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략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400MB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NSI 1Byte (2,3,4), utf-8 4Byte,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글자가 늘어날수록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,6,7)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니코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4Byte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 뒤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6,8,10)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니코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big endian) 4Byte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 뒤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6, 8, 10)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컴퓨터마다 다를 수 있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;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9616EBD-A35D-4C1D-806B-65A59E6B35EE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6B84CFC-01F4-4B24-80B5-7B93392B840E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indent="0">
              <a:spcBef>
                <a:spcPts val="82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A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전신 시스템은 매우 효과적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전보 심부름꾼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(messenger boy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89043E4-E639-4109-AEB8-8CB123FCE2D3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C4A22E8-1B96-4D09-9C99-E5CF30FB53C3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FD0AE11-D657-4F56-9266-5A03C6A1441D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EF50734-9345-4F19-84B9-5A39433D3C66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D2CA1D7-3C84-4E8B-A556-DFC36175E26C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B3CBE96-8187-44C8-8F13-6D6E0FD189B3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과거 대부분의 정보는 인간을 매개로 전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발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직접 사람이 가지 않고도 정보 전달 가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신과 전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229154D-12DC-4921-8331-9C6EB312549A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7725D64-FDB3-4607-AB77-C39CF4602B04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1662AD6-18CD-47EF-B442-3BC2AE3B2723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C &amp; M: man of vision, lacked scientific understand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Wheatstone: scientific &amp; technical skills;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전신이 상업적으로 중요해질 비전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A8727B5-7EBC-4D3D-B1A7-502BE4A40243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용 문제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많은 전선 이용 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5876A87-8D29-4B7C-BDE7-3CCCDF894553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-45720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0" y="5903640"/>
            <a:ext cx="67975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슬라이드 번호 개체 틀 3"/>
          <p:cNvSpPr/>
          <p:nvPr/>
        </p:nvSpPr>
        <p:spPr>
          <a:xfrm>
            <a:off x="3852720" y="942804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F65EA43-7B14-43F0-8039-6B25643B8C10}" type="slidenum">
              <a:rPr b="0" lang="en-US" sz="13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BC9-6BB4-4EE9-825A-B1B590B3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971-1A90-479C-8B57-45ADC1B9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F67-C0F3-419C-B2CF-538844FE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8A8-068F-4A42-A6BA-72E10B86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89EF-B630-4C2E-B24F-781B6AF9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DF77-B973-49A4-A528-BCA34584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D1CA-CF4D-41B0-ADCE-44D9DF39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F471-FA71-456C-AB55-5FEFF177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0EE5-2619-4D77-838A-0443B494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2FBB-A9B3-4276-A4A8-FBF4930E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A353-AA16-45D2-AE05-5CA25A12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30E6-2F6A-4627-A302-549C790D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B0C1-7791-4CA0-B16C-190FC83C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C53B-C6F9-4E6F-AF59-A3CAAC4F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ACB8-5D44-4188-9412-F3EF0ED9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0418-E77B-4CAE-A57E-00D1DFC9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3CF4-D59B-460C-A675-DDA4026E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BA988-53BF-42A8-8732-F01D4067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98F1-CDCD-443B-A724-EAED7535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1FA18-C87B-4E8E-83D9-866003EF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CB42D-0EE3-497B-AE54-B5691B75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65564-73FF-4C3B-8099-B82C98E6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C17-305F-4534-8855-263FB1F3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A2FCB-7BCF-4029-8B0C-92F5A9C6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F7510-88CF-406A-8276-2A7AEE84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4E3A4-7D9B-41FE-9CBC-158ADBB2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57319-CD51-4E70-93C0-FAC732AD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7ED8B-4B14-4D29-8BA3-BBB70D9C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5243-37F4-4EEF-AC40-52C770F5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88A94-5D4D-4179-8FB7-5B529344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31554-5F19-45EA-A22C-C63CB52D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5CF20-22E4-4F05-AD9A-F40AE092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CBF8A-7097-48F5-B20F-CC39F413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82E-55DA-4064-8F02-FE074026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BB988-AF1B-4F7C-A238-51F148C1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239A7-CDAA-4497-8334-4BAB36B6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0E8C0-74D0-4B29-ADE4-66E192EB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93D95-1E2F-44C8-BF34-19793A2D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A7F29-53A6-4198-99C2-46ADE708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18963-5C43-4720-A4A8-357A7DC2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5F3E7-E208-448D-9520-BFA824A2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90552-1125-4F36-90CE-1B57B7FB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482FF-E14C-40C9-9B10-E0F9C49E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31C76-3245-44D4-B3A5-8DDBB26F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3EB-5D72-4308-B0C4-EB4D65E4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4DA7E-3426-4DE9-9374-740D02AA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A419F-0120-477E-86F2-23B28245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DDF8B-F98A-4C13-8516-D4384EC4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8D4A0-FADA-435F-9561-7576C987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35E45-13B4-4FB9-9188-80DCE2C4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91C52-1995-4641-B73D-748E4727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DB8C3-8CB2-4A93-B223-73433899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98B17-C7AA-4627-BAFF-981046E6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2C452-2D7D-494D-BBB9-61D7E51B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3B4AE-1A6D-4F76-9480-A57E7CFB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668-9750-4C3B-96B1-2398437F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A7304-E42D-4A35-B0D4-AD9C672D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E4B41-83BD-4931-BCAF-A0353F45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21723-6265-4C23-88D1-2E906983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56C6C-BE93-4EA3-BE5C-783E169D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B3690-5E45-4C20-BF3D-DCBA5A80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4ADB6-B1CF-4167-AAAC-73B38743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4D54B-6C24-499A-BC0B-7A6C526A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5113E-E3CD-4622-A938-E21110A8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368DA-7210-49E3-8017-3A469167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2E259-7BDB-4B36-B486-59108546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7FE-CB0D-467E-AD40-22268883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F338A-BE2E-4B4F-A710-36FDCF4C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72EB9-2BE8-41DD-97AF-24BF92C8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311F1-1364-46DB-9E43-995F971B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99D88-2081-48F9-90BF-981B8DA7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F4C01-A9F1-48C9-8A03-66A78C67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637B2-9A27-42DB-91D1-A1F5DFBD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91F60-96D7-4AF7-88C8-660DDEF6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45DDC-9AF0-49BD-B755-626975DC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B1F5F-B508-4F8E-AF09-8B2EBDE6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F21B1-2480-496A-A428-494725AD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A8E-61CB-4FB8-9F60-6F5F547A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172EA-EB65-4DB4-A821-615094DA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C7CCC-C568-443B-8B18-7993594E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9498F-E651-4F86-B70C-12FF711D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FF096-7925-4C93-B104-D9EC831F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AA42E-1FCB-4A6F-B65A-250BEF01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325-1FED-498E-AFFB-8F2D7CE9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직사각형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직사각형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직사각형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직사각형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직사각형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직사각형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직사각형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B014-3D60-4C2C-8D05-C50F74176F3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직사각형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직사각형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직사각형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직사각형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" name="직사각형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직사각형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직사각형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직사각형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A817-A71A-4A4E-94BF-D6E96968D68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직사각형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" name="직사각형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직사각형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직사각형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직사각형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5" name="직사각형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직사각형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직사각형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직사각형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자유형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자유형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자유형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자유형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자유형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자유형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자유형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자유형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자유형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자유형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자유형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자유형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자유형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자유형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자유형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직사각형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" name="직사각형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직사각형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직사각형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직사각형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9" name="직사각형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E3EB-277D-4BA8-B31B-9F0EAADEEFF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5628-522E-443C-A805-7FD8967242A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직사각형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직사각형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4" name="직사각형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직사각형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직사각형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직사각형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" name="직사각형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9" name="직사각형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직사각형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1" name="직사각형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1B55-B5E0-4C8F-BEDE-79AEDF6DCEC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8CA8-2353-418E-98C3-EE9E5FC8EBC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직사각형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직사각형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직사각형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직사각형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8" name="직사각형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직사각형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직사각형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직사각형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직사각형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직사각형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직선 연결선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315" name="그룹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직선 연결선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직선 연결선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직선 연결선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319" name="그룹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직선 연결선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직선 연결선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직선 연결선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323" name="그룹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직선 연결선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직선 연결선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직선 연결선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74C1-2708-4C23-8FFB-3EFCB0ADAC6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legraph.co.uk/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emory.loc.gov/mss/magbell/253/25300201/0022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5" descr=""/>
          <p:cNvPicPr/>
          <p:nvPr/>
        </p:nvPicPr>
        <p:blipFill>
          <a:blip r:embed="rId1"/>
          <a:stretch/>
        </p:blipFill>
        <p:spPr>
          <a:xfrm>
            <a:off x="487440" y="1639800"/>
            <a:ext cx="8192880" cy="2189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2011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년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9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월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21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일 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정동욱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3708360" y="1557000"/>
            <a:ext cx="4392720" cy="360036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바늘 동작 </a:t>
            </a:r>
            <a:r>
              <a:rPr b="1" lang="ko-KR" sz="26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횟수</a:t>
            </a:r>
            <a:r>
              <a:rPr b="1" lang="ko-KR" sz="2600" spc="-1" strike="noStrike">
                <a:solidFill>
                  <a:srgbClr val="ffffff"/>
                </a:solidFill>
                <a:latin typeface="Georgia"/>
              </a:rPr>
              <a:t>”</a:t>
            </a: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로 문자식별</a:t>
            </a:r>
            <a:endParaRPr b="1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mbria"/>
              </a:rPr>
              <a:t>Down-Down : A</a:t>
            </a:r>
            <a:endParaRPr b="1" lang="en-US" sz="22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mbria"/>
              </a:rPr>
              <a:t>D-D-D : B</a:t>
            </a:r>
            <a:endParaRPr b="1" lang="en-US" sz="22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mbria"/>
              </a:rPr>
              <a:t>D-Up : D</a:t>
            </a:r>
            <a:endParaRPr b="1" lang="en-US" sz="22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mbria"/>
              </a:rPr>
              <a:t>U-D-U-D : Y</a:t>
            </a:r>
            <a:endParaRPr b="1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mbria"/>
              </a:rPr>
              <a:t>London-Slough </a:t>
            </a: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철도 전신선 개통 </a:t>
            </a:r>
            <a:r>
              <a:rPr b="1" lang="en-US" sz="2600" spc="-1" strike="noStrike">
                <a:solidFill>
                  <a:srgbClr val="ffffff"/>
                </a:solidFill>
                <a:latin typeface="Cambria"/>
              </a:rPr>
              <a:t>(1843)</a:t>
            </a:r>
            <a:endParaRPr b="1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이후 </a:t>
            </a:r>
            <a:r>
              <a:rPr b="1" lang="en-US" sz="2600" spc="-1" strike="noStrike">
                <a:solidFill>
                  <a:srgbClr val="ffffff"/>
                </a:solidFill>
                <a:latin typeface="Cambria"/>
              </a:rPr>
              <a:t>1-</a:t>
            </a: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바늘 </a:t>
            </a:r>
            <a:r>
              <a:rPr b="1" lang="en-US" sz="2600" spc="-1" strike="noStrike">
                <a:solidFill>
                  <a:srgbClr val="ffffff"/>
                </a:solidFill>
                <a:latin typeface="Cambria"/>
              </a:rPr>
              <a:t>&amp; </a:t>
            </a: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사운더로 개량</a:t>
            </a:r>
            <a:endParaRPr b="1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1eeff"/>
                </a:solidFill>
                <a:latin typeface="Calibri"/>
              </a:rPr>
              <a:t>Cooke-Wheatstone 2</a:t>
            </a:r>
            <a:r>
              <a:rPr b="0" lang="ko-KR" sz="3400" spc="-1" strike="noStrike">
                <a:solidFill>
                  <a:srgbClr val="c1eeff"/>
                </a:solidFill>
                <a:latin typeface="Calibri"/>
              </a:rPr>
              <a:t>바늘 전신기 </a:t>
            </a:r>
            <a:r>
              <a:rPr b="0" lang="en-US" sz="3400" spc="-1" strike="noStrike">
                <a:solidFill>
                  <a:srgbClr val="c1eeff"/>
                </a:solidFill>
                <a:latin typeface="Calibri"/>
              </a:rPr>
              <a:t>(1843)</a:t>
            </a:r>
            <a:endParaRPr b="1" lang="en-US" sz="34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17" name="Picture 3" descr="Double-NeedleTgr"/>
          <p:cNvPicPr/>
          <p:nvPr/>
        </p:nvPicPr>
        <p:blipFill>
          <a:blip r:embed="rId1"/>
          <a:stretch/>
        </p:blipFill>
        <p:spPr>
          <a:xfrm>
            <a:off x="611280" y="1577880"/>
            <a:ext cx="2987640" cy="3651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Two-Needle-Telegraph-Letter"/>
          <p:cNvPicPr/>
          <p:nvPr/>
        </p:nvPicPr>
        <p:blipFill>
          <a:blip r:embed="rId2"/>
          <a:stretch/>
        </p:blipFill>
        <p:spPr>
          <a:xfrm>
            <a:off x="611280" y="5084640"/>
            <a:ext cx="60166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7704000" cy="64764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바늘의 움직임 대신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종이에 모스 부호 기록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또는 사운더 이용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미국의  모스 부호 방식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826920" y="4940280"/>
            <a:ext cx="75614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WHAT HATH GOD WROUGHT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미국 국회도서관에 보관되어 있는 최초의 공식 모스 전신 전송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워싱턴</a:t>
            </a:r>
            <a:r>
              <a:rPr b="0" lang="ko-K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볼티모어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1844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년 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5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월 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일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록지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엠보싱 리본 종이에 점과 선으로 출력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전송 문구는 특허국장의 딸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nnie Ellsworth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가 고른 것으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성경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3:23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의 구절이다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22" name="Picture 5" descr="morse"/>
          <p:cNvPicPr/>
          <p:nvPr/>
        </p:nvPicPr>
        <p:blipFill>
          <a:blip r:embed="rId1"/>
          <a:stretch/>
        </p:blipFill>
        <p:spPr>
          <a:xfrm>
            <a:off x="826920" y="2060640"/>
            <a:ext cx="756144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7466040" cy="97776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검류계 바늘 대신 전자석 이용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모스 전신기의 작동 원리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25" name="Picture 4" descr="morse_electric_circuit_1"/>
          <p:cNvPicPr/>
          <p:nvPr/>
        </p:nvPicPr>
        <p:blipFill>
          <a:blip r:embed="rId1"/>
          <a:stretch/>
        </p:blipFill>
        <p:spPr>
          <a:xfrm>
            <a:off x="755640" y="1916280"/>
            <a:ext cx="8151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전자석 스위치 사이에 종이를 끼워 넣으면 됨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부호가 종이에 기록되는 원리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28" name="Picture 4" descr="Morse second telegraph receiver in 1844"/>
          <p:cNvPicPr/>
          <p:nvPr/>
        </p:nvPicPr>
        <p:blipFill>
          <a:blip r:embed="rId1"/>
          <a:stretch/>
        </p:blipFill>
        <p:spPr>
          <a:xfrm>
            <a:off x="755640" y="1916280"/>
            <a:ext cx="6912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706320" y="1350720"/>
            <a:ext cx="8042400" cy="510228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전지의 직렬 연결과 계전기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(relay)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의 사용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(1930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년대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헨리가 개발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계전기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: 1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차 회로의 작동 여부가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2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차 회로의 스위치 역할을 함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모스 수신기는 모스 계전기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(relay)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와  사실상 동일한 장치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2. 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신호를 어떻게 멀리 보낼 수 있을까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?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31" name="Picture 5" descr="circuito_morse_2"/>
          <p:cNvPicPr/>
          <p:nvPr/>
        </p:nvPicPr>
        <p:blipFill>
          <a:blip r:embed="rId1"/>
          <a:stretch/>
        </p:blipFill>
        <p:spPr>
          <a:xfrm>
            <a:off x="863640" y="1989000"/>
            <a:ext cx="7956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705960" y="1306440"/>
            <a:ext cx="7969320" cy="529128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철도에서 처음 사용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(1843). 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곧이어 언론에서 사용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(1845)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점차 은행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투자은행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군부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정부 등으로 빠르게 확산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3. 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누가 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“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돈을 주고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” 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전신을 보낼 것인가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?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34" name="Picture 2" descr="http://cache2.artprintimages.com/p/LRG/17/1750/C3T3D00Z/art-print/telegraph-lines-running-alongside-a-railway-at-a-remote-station-in-the-great-plains-of-america.jpg"/>
          <p:cNvPicPr/>
          <p:nvPr/>
        </p:nvPicPr>
        <p:blipFill>
          <a:blip r:embed="rId1"/>
          <a:stretch/>
        </p:blipFill>
        <p:spPr>
          <a:xfrm>
            <a:off x="826920" y="1916280"/>
            <a:ext cx="5473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Tawell </a:t>
            </a:r>
            <a:r>
              <a:rPr b="1" lang="ko-KR" sz="4000" spc="-1" strike="noStrike">
                <a:solidFill>
                  <a:srgbClr val="c1eeff"/>
                </a:solidFill>
                <a:latin typeface="Calibri"/>
              </a:rPr>
              <a:t>사건 </a:t>
            </a:r>
            <a:r>
              <a:rPr b="1" lang="en-US" sz="4000" spc="-1" strike="noStrike">
                <a:solidFill>
                  <a:srgbClr val="c1eeff"/>
                </a:solidFill>
                <a:latin typeface="Calibri"/>
              </a:rPr>
              <a:t>(1945)</a:t>
            </a: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1280" y="1483920"/>
            <a:ext cx="7929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1845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년 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월 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일 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Slough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에서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애인을 살해한 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John Tawell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이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런던으로 열차를 타고 도망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당시 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Slough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에서 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London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으로 보낸 전신 문구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ko-KR" sz="21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Georgia"/>
              </a:rPr>
              <a:t>A murder has just been committed at Salt Hill and the suspected murderer was seen to take a first class ticket to London by the train that left Slough at 7.42pm. He is in the garb of a Kwaker with a brown great coat on which reaches his feet. He is in the last compartment of the second first-class carriage”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ko-KR" sz="2100" spc="-1" strike="noStrike">
                <a:solidFill>
                  <a:srgbClr val="ea157a"/>
                </a:solidFill>
                <a:latin typeface="Cambria"/>
              </a:rPr>
              <a:t>이 문구를 보내는 데 사용된 전신기가 바로 </a:t>
            </a:r>
            <a:r>
              <a:rPr b="0" lang="en-US" sz="2100" spc="-1" strike="noStrike">
                <a:solidFill>
                  <a:srgbClr val="ea157a"/>
                </a:solidFill>
                <a:latin typeface="Cambria"/>
              </a:rPr>
              <a:t>2-</a:t>
            </a:r>
            <a:r>
              <a:rPr b="0" lang="ko-KR" sz="2100" spc="-1" strike="noStrike">
                <a:solidFill>
                  <a:srgbClr val="ea157a"/>
                </a:solidFill>
                <a:latin typeface="Cambria"/>
              </a:rPr>
              <a:t>바늘 전신기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런던에서 체포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! </a:t>
            </a:r>
            <a:r>
              <a:rPr b="1" lang="en-US" sz="2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언론에서 전신의 힘을 깨달은 사건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!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그 흔적 </a:t>
            </a:r>
            <a:r>
              <a:rPr b="1" lang="en-US" sz="21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en-US" sz="2400" spc="-1" strike="noStrike" u="sng">
                <a:solidFill>
                  <a:srgbClr val="eb8803"/>
                </a:solidFill>
                <a:uFillTx/>
                <a:latin typeface="Cambria"/>
                <a:hlinkClick r:id="rId1"/>
              </a:rPr>
              <a:t>The Telegraph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Cambria"/>
              </a:rPr>
              <a:t>The Daily Telegraph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Cambria"/>
              </a:rPr>
              <a:t>등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7" name="Picture 4" descr="tawell1"/>
          <p:cNvPicPr/>
          <p:nvPr/>
        </p:nvPicPr>
        <p:blipFill>
          <a:blip r:embed="rId2"/>
          <a:stretch/>
        </p:blipFill>
        <p:spPr>
          <a:xfrm>
            <a:off x="5629320" y="0"/>
            <a:ext cx="3514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wires"/>
          <p:cNvPicPr/>
          <p:nvPr/>
        </p:nvPicPr>
        <p:blipFill>
          <a:blip r:embed="rId1"/>
          <a:stretch/>
        </p:blipFill>
        <p:spPr>
          <a:xfrm>
            <a:off x="539640" y="0"/>
            <a:ext cx="549756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3"/>
          <p:cNvSpPr/>
          <p:nvPr/>
        </p:nvSpPr>
        <p:spPr>
          <a:xfrm>
            <a:off x="6208560" y="1962000"/>
            <a:ext cx="25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1880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년대 뉴욕 시가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4. 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해외에는 어떻게 전신을 보낼까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?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2" name="Picture 2" descr="eighthwonder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368360"/>
            <a:ext cx="66963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lines"/>
          <p:cNvPicPr/>
          <p:nvPr/>
        </p:nvPicPr>
        <p:blipFill>
          <a:blip r:embed="rId1"/>
          <a:stretch/>
        </p:blipFill>
        <p:spPr>
          <a:xfrm>
            <a:off x="755640" y="357120"/>
            <a:ext cx="7920000" cy="59007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3892320" y="6319800"/>
            <a:ext cx="18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1913</a:t>
            </a:r>
            <a:r>
              <a:rPr b="1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년의 세계 전신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8113680" cy="481464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11200" indent="-457200">
              <a:spcBef>
                <a:spcPts val="700"/>
              </a:spcBef>
              <a:buClr>
                <a:srgbClr val="d6ecff"/>
              </a:buClr>
              <a:buSzPct val="9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컴퓨터에서 색은 보통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RGB (000000~FFFFFF)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로 표현된다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R(ed)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두 자리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, G(reen)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두 자리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, B(lue)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두 자리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(16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진수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F0000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은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Red, 00FF00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은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Green, 0000FF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는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Blu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000000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은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Black, FFFFFF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는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White.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그렇다면 </a:t>
            </a:r>
            <a:r>
              <a:rPr b="0" lang="ko-KR" sz="2000" spc="-1" strike="noStrike">
                <a:solidFill>
                  <a:srgbClr val="ffff00"/>
                </a:solidFill>
                <a:latin typeface="Cambria"/>
              </a:rPr>
              <a:t>노란색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의 색번호는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c811"/>
                </a:solidFill>
                <a:latin typeface="Cambria"/>
              </a:rPr>
              <a:t>RGB(255, 200, 17)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을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16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진수 형태로 고치면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11200" indent="-457200">
              <a:spcBef>
                <a:spcPts val="700"/>
              </a:spcBef>
              <a:buClr>
                <a:srgbClr val="d6ecff"/>
              </a:buClr>
              <a:buSzPct val="9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한글을 표현하는 데에는 몇 비트의 정보량이 필요할까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11200" indent="-457200">
              <a:spcBef>
                <a:spcPts val="700"/>
              </a:spcBef>
              <a:buClr>
                <a:srgbClr val="d6ecff"/>
              </a:buClr>
              <a:buSzPct val="9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초당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30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프레임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, 320×240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화소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트루칼라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분 짜리 동영상의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크기를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Byte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단위로 계산해보자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11200" indent="-457200">
              <a:spcBef>
                <a:spcPts val="700"/>
              </a:spcBef>
              <a:buClr>
                <a:srgbClr val="d6ecff"/>
              </a:buClr>
              <a:buSzPct val="9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메모장을 열어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만 입력한 후 저장하면 용량이 어떻게 될까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?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만약 인코딩 방식을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NSI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에서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utf-8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로 고치면 어떻게 될까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?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이것으로 무엇을 알 수 있는가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과제 확인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해결해야 할 과제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: 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부호 체계의 통일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48" name="Picture 4" descr="morse_alphabet_1"/>
          <p:cNvPicPr/>
          <p:nvPr/>
        </p:nvPicPr>
        <p:blipFill>
          <a:blip r:embed="rId1"/>
          <a:stretch/>
        </p:blipFill>
        <p:spPr>
          <a:xfrm>
            <a:off x="755640" y="1335240"/>
            <a:ext cx="6480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706320" y="1350720"/>
            <a:ext cx="7321680" cy="164628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훈련된 사람들만이 전신을 쓸 수 있다는 문제</a:t>
            </a:r>
            <a:endParaRPr b="1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Cambria"/>
              </a:rPr>
              <a:t>보통 사람이 집에서 전신을 쓸 수 있는 방법 필요</a:t>
            </a:r>
            <a:r>
              <a:rPr b="1" lang="en-US" sz="26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mbria"/>
              </a:rPr>
              <a:t>Q: </a:t>
            </a:r>
            <a:r>
              <a:rPr b="1" lang="ko-KR" sz="2200" spc="-1" strike="noStrike">
                <a:solidFill>
                  <a:srgbClr val="ffffff"/>
                </a:solidFill>
                <a:latin typeface="Cambria"/>
              </a:rPr>
              <a:t>이러한 기술적 필요가 </a:t>
            </a:r>
            <a:r>
              <a:rPr b="1" lang="ko-KR" sz="2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1" lang="ko-KR" sz="2200" spc="-1" strike="noStrike">
                <a:solidFill>
                  <a:srgbClr val="ffffff"/>
                </a:solidFill>
                <a:latin typeface="Cambria"/>
              </a:rPr>
              <a:t>전화</a:t>
            </a:r>
            <a:r>
              <a:rPr b="1" lang="ko-KR" sz="2200" spc="-1" strike="noStrike">
                <a:solidFill>
                  <a:srgbClr val="ffffff"/>
                </a:solidFill>
                <a:latin typeface="Georgia"/>
              </a:rPr>
              <a:t>”</a:t>
            </a:r>
            <a:r>
              <a:rPr b="1" lang="ko-KR" sz="2200" spc="-1" strike="noStrike">
                <a:solidFill>
                  <a:srgbClr val="ffffff"/>
                </a:solidFill>
                <a:latin typeface="Cambria"/>
              </a:rPr>
              <a:t>를 낳았는가</a:t>
            </a:r>
            <a:r>
              <a:rPr b="1" lang="en-US" sz="22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5. 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일반인은 어떻게 전신을 보낼까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?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51" name="Picture 4" descr="aa_carnegie_work_2_m"/>
          <p:cNvPicPr/>
          <p:nvPr/>
        </p:nvPicPr>
        <p:blipFill>
          <a:blip r:embed="rId1"/>
          <a:stretch/>
        </p:blipFill>
        <p:spPr>
          <a:xfrm>
            <a:off x="755640" y="32846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messengers"/>
          <p:cNvPicPr/>
          <p:nvPr/>
        </p:nvPicPr>
        <p:blipFill>
          <a:blip r:embed="rId2"/>
          <a:stretch/>
        </p:blipFill>
        <p:spPr>
          <a:xfrm>
            <a:off x="3851280" y="3251160"/>
            <a:ext cx="48261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or"/>
          <p:cNvPicPr/>
          <p:nvPr/>
        </p:nvPicPr>
        <p:blipFill>
          <a:blip r:embed="rId1"/>
          <a:stretch/>
        </p:blipFill>
        <p:spPr>
          <a:xfrm>
            <a:off x="755640" y="189000"/>
            <a:ext cx="7632720" cy="604188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3"/>
          <p:cNvSpPr/>
          <p:nvPr/>
        </p:nvSpPr>
        <p:spPr>
          <a:xfrm>
            <a:off x="3635280" y="638172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Western Union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http://naekil.com.ne.kr/images/image/junbo.jpg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605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사용자 삽입 이미지"/>
          <p:cNvPicPr/>
          <p:nvPr/>
        </p:nvPicPr>
        <p:blipFill>
          <a:blip r:embed="rId1"/>
          <a:stretch/>
        </p:blipFill>
        <p:spPr>
          <a:xfrm>
            <a:off x="395280" y="692280"/>
            <a:ext cx="8317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cyberlove"/>
          <p:cNvPicPr/>
          <p:nvPr/>
        </p:nvPicPr>
        <p:blipFill>
          <a:blip r:embed="rId1"/>
          <a:stretch/>
        </p:blipFill>
        <p:spPr>
          <a:xfrm>
            <a:off x="611280" y="0"/>
            <a:ext cx="538308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"/>
          <p:cNvSpPr/>
          <p:nvPr/>
        </p:nvSpPr>
        <p:spPr>
          <a:xfrm>
            <a:off x="6076080" y="245268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19</a:t>
            </a:r>
            <a:r>
              <a:rPr b="0" lang="ko-KR" sz="18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세기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Cyber lover?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8113680" cy="97776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실린더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=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음의 높이와 길이가 부호화된 정보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디지털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+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아날로그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)</a:t>
            </a:r>
            <a:br>
              <a:rPr sz="2000"/>
            </a:b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실로폰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=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기록된 정보를 일정한 소리로 변환해주는 디코더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복습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: 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오르골을 이용한 정보 이론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381" name="Picture 4" descr="http://pds4.egloos.com/pds/200703/21/89/c0069289_02031528.jpg"/>
          <p:cNvPicPr/>
          <p:nvPr/>
        </p:nvPicPr>
        <p:blipFill>
          <a:blip r:embed="rId1"/>
          <a:stretch/>
        </p:blipFill>
        <p:spPr>
          <a:xfrm>
            <a:off x="900000" y="2349360"/>
            <a:ext cx="61930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교통과 통신을 분리시킨 기술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electric telegraph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이전에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optical telegraph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존재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그 이전엔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전신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(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傳信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, Telegraphy)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384" name="Picture 4" descr="optical tele1"/>
          <p:cNvPicPr/>
          <p:nvPr/>
        </p:nvPicPr>
        <p:blipFill>
          <a:blip r:embed="rId1"/>
          <a:stretch/>
        </p:blipFill>
        <p:spPr>
          <a:xfrm>
            <a:off x="826920" y="2924280"/>
            <a:ext cx="2241720" cy="35496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optical tele2"/>
          <p:cNvPicPr/>
          <p:nvPr/>
        </p:nvPicPr>
        <p:blipFill>
          <a:blip r:embed="rId2"/>
          <a:stretch/>
        </p:blipFill>
        <p:spPr>
          <a:xfrm>
            <a:off x="3348000" y="2924280"/>
            <a:ext cx="2251080" cy="3600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"/>
          <p:cNvPicPr/>
          <p:nvPr/>
        </p:nvPicPr>
        <p:blipFill>
          <a:blip r:embed="rId3"/>
          <a:stretch/>
        </p:blipFill>
        <p:spPr>
          <a:xfrm>
            <a:off x="5724360" y="2924280"/>
            <a:ext cx="256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copy_optical_telegraph_france_2"/>
          <p:cNvPicPr/>
          <p:nvPr/>
        </p:nvPicPr>
        <p:blipFill>
          <a:blip r:embed="rId1"/>
          <a:stretch/>
        </p:blipFill>
        <p:spPr>
          <a:xfrm>
            <a:off x="826920" y="1484280"/>
            <a:ext cx="4913640" cy="508644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508720" y="3573000"/>
            <a:ext cx="3240000" cy="251964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3000mile </a:t>
            </a:r>
            <a:r>
              <a:rPr b="0" lang="ko-KR" sz="1800" spc="-1" strike="noStrike">
                <a:solidFill>
                  <a:srgbClr val="ffffff"/>
                </a:solidFill>
                <a:latin typeface="Cambria"/>
              </a:rPr>
              <a:t>커버</a:t>
            </a:r>
            <a:endParaRPr b="1" lang="en-US" sz="18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80mile/3</a:t>
            </a:r>
            <a:r>
              <a:rPr b="0" lang="ko-KR" sz="1800" spc="-1" strike="noStrike">
                <a:solidFill>
                  <a:srgbClr val="ffffff"/>
                </a:solidFill>
                <a:latin typeface="Cambria"/>
              </a:rPr>
              <a:t>분</a:t>
            </a:r>
            <a:endParaRPr b="1" lang="en-US" sz="18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Cambria"/>
              </a:rPr>
              <a:t>용도는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18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Cambria"/>
              </a:rPr>
              <a:t>언제까지 사용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프랑스의 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Optical Telegraphy Network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705960" y="5474880"/>
            <a:ext cx="6458040" cy="97812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쿠크와 모스는 과학의 문외한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ffffff"/>
                </a:solidFill>
                <a:latin typeface="Cambria"/>
              </a:rPr>
              <a:t>휘트스톤은 전신의 상업적 중요성에 대해 무관심</a:t>
            </a:r>
            <a:endParaRPr b="1" lang="en-US" sz="21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전신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(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電信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, Electric Telegraphy)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2629080" y="2690640"/>
            <a:ext cx="388620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2629080" y="2690640"/>
            <a:ext cx="388620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4" name="Picture 13" descr="William Cooke"/>
          <p:cNvPicPr/>
          <p:nvPr/>
        </p:nvPicPr>
        <p:blipFill>
          <a:blip r:embed="rId1"/>
          <a:stretch/>
        </p:blipFill>
        <p:spPr>
          <a:xfrm>
            <a:off x="822240" y="1413000"/>
            <a:ext cx="2400480" cy="3744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4" descr="Charles Wheatstone"/>
          <p:cNvPicPr/>
          <p:nvPr/>
        </p:nvPicPr>
        <p:blipFill>
          <a:blip r:embed="rId2"/>
          <a:stretch/>
        </p:blipFill>
        <p:spPr>
          <a:xfrm>
            <a:off x="3343320" y="1413000"/>
            <a:ext cx="2724120" cy="3744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5" descr="Sam Morse"/>
          <p:cNvPicPr/>
          <p:nvPr/>
        </p:nvPicPr>
        <p:blipFill>
          <a:blip r:embed="rId3"/>
          <a:stretch/>
        </p:blipFill>
        <p:spPr>
          <a:xfrm>
            <a:off x="6156360" y="1413000"/>
            <a:ext cx="2448000" cy="323208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6"/>
          <p:cNvSpPr/>
          <p:nvPr/>
        </p:nvSpPr>
        <p:spPr>
          <a:xfrm>
            <a:off x="6566760" y="472428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산돌고딕 M"/>
                <a:ea typeface="산돌고딕 M"/>
              </a:rPr>
              <a:t>Samuel Morse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6169320" cy="97776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Cambria"/>
              </a:rPr>
              <a:t>전지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Cambria"/>
              </a:rPr>
              <a:t>검류계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Cambria"/>
              </a:rPr>
              <a:t>스위치</a:t>
            </a:r>
            <a:r>
              <a:rPr b="1" lang="ko-KR" sz="2400" spc="-1" strike="noStrike">
                <a:solidFill>
                  <a:srgbClr val="ffffff"/>
                </a:solidFill>
                <a:latin typeface="Georgia"/>
              </a:rPr>
              <a:t>로 이루어진 전기회로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Georgia"/>
              </a:rPr>
              <a:t>모두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1820</a:t>
            </a:r>
            <a:r>
              <a:rPr b="1" lang="ko-KR" sz="2400" spc="-1" strike="noStrike">
                <a:solidFill>
                  <a:srgbClr val="ffffff"/>
                </a:solidFill>
                <a:latin typeface="Georgia"/>
              </a:rPr>
              <a:t>년대에 구비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전신 구성에 필요한 것은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?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00" name="Picture 5" descr="http://www.topianet.co.kr/topia/6/6j/Images/6j010203AT.JPG"/>
          <p:cNvPicPr/>
          <p:nvPr/>
        </p:nvPicPr>
        <p:blipFill>
          <a:blip r:embed="rId1"/>
          <a:stretch/>
        </p:blipFill>
        <p:spPr>
          <a:xfrm>
            <a:off x="826920" y="2313000"/>
            <a:ext cx="5473800" cy="363528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826920" y="609300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이것을 곧바로 통신장치로 활용할 수 있을까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? 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실용화까지 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1~20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년 걸림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왜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706320" y="1350720"/>
            <a:ext cx="7537680" cy="550692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아래의 회로는 몇 비트의 정보를 표현할 수 있을까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해법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– </a:t>
            </a:r>
            <a:r>
              <a:rPr b="1" lang="ko-KR" sz="2000" spc="-1" strike="noStrike">
                <a:solidFill>
                  <a:srgbClr val="ffffff"/>
                </a:solidFill>
                <a:latin typeface="Cambria"/>
              </a:rPr>
              <a:t>부호 체계와 가시화 장치 제작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영국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: 5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바늘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(1837)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2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바늘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(1843)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바늘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&amp;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사운더 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미국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모스 부호 체계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+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Cambria"/>
              </a:rPr>
              <a:t>모스 프린터 또는 사운더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1. 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복잡한 정보를 어떻게 표현할 것인가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?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04" name="Picture 2" descr="http://manlijung.com.ne.kr/animation/hero.gif"/>
          <p:cNvPicPr/>
          <p:nvPr/>
        </p:nvPicPr>
        <p:blipFill>
          <a:blip r:embed="rId1"/>
          <a:stretch/>
        </p:blipFill>
        <p:spPr>
          <a:xfrm>
            <a:off x="900000" y="1844640"/>
            <a:ext cx="547236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Cooke-Wheatstone 5</a:t>
            </a:r>
            <a:r>
              <a:rPr b="0" lang="ko-KR" sz="3800" spc="-1" strike="noStrike">
                <a:solidFill>
                  <a:srgbClr val="c1eeff"/>
                </a:solidFill>
                <a:latin typeface="Calibri"/>
              </a:rPr>
              <a:t>바늘 전신기</a:t>
            </a:r>
            <a:r>
              <a:rPr b="0" lang="en-US" sz="3800" spc="-1" strike="noStrike">
                <a:solidFill>
                  <a:srgbClr val="c1eeff"/>
                </a:solidFill>
                <a:latin typeface="Calibri"/>
              </a:rPr>
              <a:t>(1837)</a:t>
            </a:r>
            <a:endParaRPr b="1" lang="en-US" sz="3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07" name="Picture 5" descr="cooke_telegraph2"/>
          <p:cNvPicPr/>
          <p:nvPr/>
        </p:nvPicPr>
        <p:blipFill>
          <a:blip r:embed="rId1"/>
          <a:stretch/>
        </p:blipFill>
        <p:spPr>
          <a:xfrm>
            <a:off x="3708360" y="1336680"/>
            <a:ext cx="2664000" cy="3676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cooke_telegraph1"/>
          <p:cNvPicPr/>
          <p:nvPr/>
        </p:nvPicPr>
        <p:blipFill>
          <a:blip r:embed="rId2"/>
          <a:stretch/>
        </p:blipFill>
        <p:spPr>
          <a:xfrm>
            <a:off x="900000" y="1366920"/>
            <a:ext cx="2735280" cy="3647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Five-Needle-Telegraph-Letter"/>
          <p:cNvPicPr/>
          <p:nvPr/>
        </p:nvPicPr>
        <p:blipFill>
          <a:blip r:embed="rId3"/>
          <a:stretch/>
        </p:blipFill>
        <p:spPr>
          <a:xfrm>
            <a:off x="900000" y="5157720"/>
            <a:ext cx="5654880" cy="1700280"/>
          </a:xfrm>
          <a:prstGeom prst="rect">
            <a:avLst/>
          </a:prstGeom>
          <a:ln w="0">
            <a:noFill/>
          </a:ln>
        </p:spPr>
      </p:pic>
      <p:sp>
        <p:nvSpPr>
          <p:cNvPr id="410" name="Line 8"/>
          <p:cNvSpPr/>
          <p:nvPr/>
        </p:nvSpPr>
        <p:spPr>
          <a:xfrm>
            <a:off x="4284720" y="3070080"/>
            <a:ext cx="217440" cy="287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1" name="Line 9"/>
          <p:cNvSpPr/>
          <p:nvPr/>
        </p:nvSpPr>
        <p:spPr>
          <a:xfrm flipH="1">
            <a:off x="5509800" y="3070080"/>
            <a:ext cx="214200" cy="287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5506920" y="3070080"/>
            <a:ext cx="217440" cy="287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3" name="Line 11"/>
          <p:cNvSpPr/>
          <p:nvPr/>
        </p:nvSpPr>
        <p:spPr>
          <a:xfrm flipH="1">
            <a:off x="4284360" y="3070080"/>
            <a:ext cx="214200" cy="287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4643280" y="3070080"/>
            <a:ext cx="214560" cy="287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Korean</cp:lastModifiedBy>
  <dcterms:modified xsi:type="dcterms:W3CDTF">2011-09-21T04:49:03Z</dcterms:modified>
  <cp:revision>109</cp:revision>
  <dc:subject/>
  <dc:title>중세 유럽의 과학</dc:title>
</cp:coreProperties>
</file>